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43DD-49B6-41BB-8D28-E74C5881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FFDC-5D97-4793-B4E3-9924C479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945F-437D-4C1B-AB88-1B11328E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2FC1-58C5-4689-ABDF-EC96CD56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CE7-8C03-4CCB-8755-7D925AE3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C55A-D4BD-4439-8B84-1DA351D6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06D-0AF6-490E-A321-F0E9388A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DBD-1D01-4300-A645-9515E8BC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11E-935C-437A-BFBE-C1791191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FB5-C84C-4BE4-80D0-7696355B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FB6A-0762-4282-AADB-CBF0145F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6E2-79B8-4354-908F-3B56A810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839C05-B4D0-41F9-B886-48CF9EFBD13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e, hope is alive 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ll the world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You are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ve, love changes ever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love has rescue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I am Y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,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Yours 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took hold of m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my love is Yours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528560"/>
            <a:ext cx="9070920" cy="5468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at I have is Y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oul will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me alive in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oul will s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57160"/>
            <a:ext cx="9070920" cy="501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y, It is my joy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ring you an o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You are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ce, Your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grace is covering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d me and set me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I am Y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took hold of m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my love is Yours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528560"/>
            <a:ext cx="9070920" cy="5468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at I have is Y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oul will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me alive in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oul will s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,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Yours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singing, we are d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coming a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dancing, we are sh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et our hearts on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1544400"/>
            <a:ext cx="9070920" cy="54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at I have is Y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oul will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me alive in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oul will s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8:32:32Z</dcterms:created>
  <dc:creator/>
  <dc:description/>
  <dc:language>en-US</dc:language>
  <cp:lastModifiedBy/>
  <dcterms:modified xsi:type="dcterms:W3CDTF">2015-06-25T06:32:57Z</dcterms:modified>
  <cp:revision>3</cp:revision>
  <dc:subject/>
  <dc:title/>
</cp:coreProperties>
</file>